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5EB-4782-4BA4-BFA4-16D43A8F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E22-1BCD-4EFE-99AD-4781A80A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421BC-78AC-47A0-B1BE-D57103E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5574A-FCDC-4C49-834B-4D528F66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439C8-78DA-4846-8861-CED952AB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434B9-BD0A-4172-ACC7-4EFFB14D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F337E-0A81-4733-A849-0857DBE6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10E70-E0EB-496B-AF4D-6F969FD8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5F8F8-5BA7-4F83-9243-7E3056EE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D4411-F1DC-43B8-AE58-2054F25E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ED2AF-112E-48F6-8E7B-C5C8DD57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A4957-8CDE-43E9-B2E3-D5AA4CAB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1C0-E465-460B-B2AE-1F88B87E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E181A-A2C0-41B7-A00C-A4BD5CB7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9FBAB-2AEE-4DAC-8537-31B396F1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FADF8-81DB-42FD-9E1F-4D67259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480B7-1D76-4753-8EC3-236C3365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4C3C5-1FBC-478A-A9DC-E054FF59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50889-3A11-4A6A-96A9-220D174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370FD-389C-4DC1-B420-4612768F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C5013-F42F-4C44-B510-2CEA2C4E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44943-8557-4290-96FE-40A3B997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2A640-A543-4F19-9E4F-5A2A5C7C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221-0B42-4483-9596-B0915E92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380DA-394D-48F7-85F7-5ADC7FA3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8CC5D-70FE-417A-A12C-16E1ACD2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7B370-A017-496D-9A48-BE42C099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9E6FE-7B2B-4253-ABA1-7F20FCA0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739D6-0E98-419A-9489-FD0AE5F8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4471E-8258-4DE0-8192-979B2811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FF6E0-59EC-49D0-B49F-D09C94E5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C8494-11D2-4283-9489-C9C3E1C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E6DFC-8341-41C9-9EC7-CEE2AC26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63BB6-9909-4C3B-B617-6A92C7F9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1DDE-EB6F-44EF-878F-CDD06A6E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59EAB-4667-4204-AAD3-3E147905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11E3B-620D-431D-ADC4-662BCA3B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411DE-E09D-446B-929C-F0DB048D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0574D-F082-422D-ADEF-006586A6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9307C-1D33-48AF-867C-7C409CA5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6AAAA-5819-463B-BD59-C8329F29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37C80-5795-4929-A1C0-E6AC10F8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44E88-63B4-4F12-9756-BCBB299D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EAA48-7223-4A7F-B3B8-C1F5DC32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87DDA-65B3-484E-9C05-3835F810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74F0-D989-4835-9AA2-E89CCD67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A63DA-3A88-4E97-AA35-4CDC171F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D55E0-BFB2-49CB-BF35-5CA8A846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FBBA1-AAAB-4195-9E93-22AFA151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5F372-D544-43C3-8206-3A20C028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CD02F-D104-4DEF-B7C7-0D20EE79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E4033-5BBC-426F-9C65-CE62AB93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5655C-6A83-43E3-8628-9AE7AF9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F7051-5268-4CCB-91F7-810D1AD0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380BB-4CC6-47F5-8495-5FC02EA5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3CB93-FE68-451C-ACC8-F1310784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1751-10E4-41B3-A9F4-33FC1E6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F4E20-E334-49FE-9626-F12F6AA9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A70FC-6714-4A2C-8DAA-506550D8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F7207-0C76-48E9-BC87-6E887E91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92DBE-4B11-439B-8539-91498D3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6B05E-8B04-42ED-A15E-37CEC185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68218-CC32-4415-A790-BD761637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4B341-2425-43D6-8293-0EFD74DE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96D24-CDAA-4CD8-9B7D-72B88106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697DF-EEB6-4937-AB3C-BA3DAC5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0935F-55F2-4B54-82CE-8DA60D6B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734C-3B36-4572-B4B9-EF434BD5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D0993-B514-4BAD-A255-FF1F28A3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CF62B-6119-4CE1-AD52-B044575E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B11A9-7165-4EB8-8501-7392782F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8A340-6275-41D9-A978-D6B6D77F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A20CC-E5BD-445E-9503-8F16F363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311B95-6D97-4D7C-A437-C78A28CD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0D9AC-5DBC-4AE8-A325-DBD9E7AB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DD17C-9588-4ADD-803F-0F5C9920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77B09-CDDA-45F2-A627-997D3087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97348-2B90-47CC-A2F4-FEAC2BB1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BD31-4D0C-4A8B-B44F-56EF2CD7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DBEC7-9B8C-4D0A-83D8-284ED7B6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537E2-833B-47CD-ACFA-1897B109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BB768-E7EB-4EF8-B74A-05C91697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01AE2-2BDC-4F99-95E2-8C65AA7A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B198A-8466-4E55-8959-D7E4BC09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8411D-08B8-4EA7-AEE8-C1431B02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3FF86-BB9A-460D-AC62-E2F5677A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79DC2-B1F0-4A85-BA6F-56164AC4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0C758-8B30-48BE-BCE6-9E8A12FE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76212-4A1F-4DEB-9AB7-1B2FD34F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004F-070D-4B12-8FA9-D813D764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B3B29-7944-411C-B06C-7999ECAE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55063-1654-41E5-8449-CED655A6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29B41-B932-45C9-8FB4-6136B1FF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CA433-2C90-4612-B997-9EE28F82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5B01F-1F54-467D-8735-65C1D01B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4A699-DCAE-4E67-ACF6-1081E734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05103-4E9B-4895-932C-2BD6FE93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10BE8-CEC0-4A0A-881B-2C6CDE28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4B679-7F4D-4241-995C-B2EBF1F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B775A-D564-4592-B924-FBE5AF95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87C3-5865-485D-88E3-6EFD8218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1E015-2BD7-4018-94CC-1F6C30DC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0092C-30AD-4EDE-9A4E-375D807B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39B9A-CA20-41A3-AD96-F67A37E8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D4E50-7FCB-49E6-BB8D-B7395655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06D8F-4519-4E90-B35D-C93D349D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115A6B-8E3E-4340-A10B-0D95F96E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08271-61DE-4D7C-8E8F-A770B313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5F3A9-33E7-4B03-B40A-B4985B37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F9B8E-244F-46D6-97AA-4AC839D9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AC9FF-076B-42A0-AAA1-8F0722EE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FB7-E967-4F0A-B45E-6EEAE98B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5D23-82D9-40FB-8155-DA8F0888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F054F3-5C77-4A87-B014-A79FC74F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6BAF8-77D0-4B7A-ACDB-A8F9C6E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61FA7-1C43-465F-9B89-64344445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4A710-EA86-4EE1-81A4-3DD2BFC7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0D24B-93FD-48EF-8A52-0F7404DC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02F07-47B6-4D2D-A6E4-FF03290D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A08526-F57A-4C10-B959-D8A643E6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2DB60-85CD-4335-845C-DC5A2779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D255B-EB3A-40E0-B429-53872C6E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7D538-B89A-4A48-A238-79A565AE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FDE8-7A15-4C5F-8D97-58CD730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7CC7DA-1390-4FEF-AE63-6E7A4FD9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85FC5-3560-4757-A01D-1028F804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FB5AF-106B-400B-8F30-3F41DC6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FECFC8-DAAA-4E84-998F-633049E9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8397B5-82DC-4B72-86A6-F562E837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DF7E3-E983-473F-915C-663BA7DD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1DAE30-5932-420F-A2A5-435441C1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356DD4-D720-4C37-A3C7-A5893FA2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8D780-2541-4E8D-B305-6D110D72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EE4670-3692-48AF-96B2-0FDD91BB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EA43-F38B-45C1-9D87-4158B444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880C7-4F21-44B6-BB7D-BF18BBFF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D8DF11-BD6B-4A03-B32E-FEB62E84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78D62-2943-42DF-A309-15A16552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3BDAF6-EE86-4E97-BF00-56B3521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B8E948-C88C-4BB2-98AC-55FD5EE9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2146D-EF76-4A4A-AA12-540E46F4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589811-765B-4B1A-A61A-4ED9BED2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3B985D-3DEF-46BF-9165-AB09C48E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7DA706-AB4D-4227-B401-066F0A6F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F3E79-4224-4D36-8D5D-3B0F2255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ABFA-9589-4908-9C55-0ED2426C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A90315-7989-4DDE-B580-FF037441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29FDE3-7224-4138-B2E8-8387A010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A6D39-A4E3-4E4D-9403-2859A338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919E53-1F4F-4D3C-B534-F5ECA5C5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1C26B1-E587-4D9C-8B00-9DC08D84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35A65D-71F2-4920-970D-2BAD09E4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9FA78-34B8-44BF-84B0-7DB85431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42C216-B8AA-4758-8C0F-B2AEEE1F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D30CEF-12F3-4F80-8930-DB049E1F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D3B90B-6B1B-4769-87CC-7C6C7784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1FF6-8644-423E-A8BA-66E1984D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0DEB40-D9A7-49D0-85E5-7577B049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1196A-4558-4845-AECC-294DBF2B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6982F-4466-4341-94E6-BEB7AF8F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00E74-71B2-4593-9C95-454E6EC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A429AC-B054-4F93-A5D1-C21635D8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11A152-5BD8-4555-86C0-23F0534A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FB192C-E3AA-4AED-AB7C-9308DF15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3432A1-FED1-48AC-B005-E5173C21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177B88-748D-4769-8A9E-F8FBAB0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28846-0567-4261-9D5E-CF6A055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4298-085F-4D48-B7E4-2781542D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C994F3-0CBE-4D95-B5CE-C4EBA720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85B905-F592-4921-B65C-BD3EB79C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813407-AE65-4B8A-9FC8-98E895E5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CE563-5746-4F5C-BA49-DEE57A4C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75BE-230E-43D2-B1F1-03E49454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AFBCB-FD99-4060-AECD-E003F78F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C27B-4E40-4E69-A4C8-A10C8E84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C4A-22B6-494B-ADD4-DB1F910A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318F-FCAF-440D-A99C-6F82377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CF7F-DA4F-41F6-A817-CFAB05FC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FE04-4906-4AC6-A3A5-059B20C0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EEAB3-CD04-4B5A-894B-5937045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244D5-EB2F-4491-A21B-85244D33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053D-30B6-4FC7-B719-0A810FF8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0B74-3D14-49BC-B4CF-805610A4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2A6BD-CD1D-4079-AF91-2A45A17B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CF48-6233-413A-9447-63A3C9CB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81336-374A-4314-B578-A89D053C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F74-C216-44DA-9047-0939AC0A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6E37B-C970-4C69-9527-72338549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09DED-D410-4855-9734-D47E7E42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01587-122C-4CE7-871C-EE0EA4D2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12AA9-5853-4458-A800-18BC4FCB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4A1AF-DDCC-489E-B402-F238374C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39AC7-2B7B-4FEA-8193-432ECC9A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80039-C6C4-4343-A88E-FC572933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2CF6-6DC1-4732-9661-079A4070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9B59-C93D-48F0-8D84-F5270A25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BF2D-484B-44CB-B205-2ACFCF0C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44B-244A-4E79-9E3E-046A691F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CE0FC-B26A-49FB-A563-E1C1043D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EAE7C-19E8-404D-AB8B-ED43AA5F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A88B-D4DA-40A3-9395-1D76D617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999AF-82DF-44E3-84DB-0B6CE298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3BFC2-22A6-43EE-AEAA-64CE4701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86239-F638-4511-AAF0-2EDB1835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2F664-AA7C-4C51-9451-5FF69E8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B1A09-8EF3-4DEA-8E28-69310A1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1E57E-95E1-4EAC-BEE2-99205B97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D758E-F52B-47AD-98AC-01B45948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06D-D86A-4064-8D73-DFC6F25E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2DA3-C6DB-485D-9C3C-0D776A28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1C8EF-DDF1-437F-BDAC-6F5168DA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A6EE-E55E-4C3D-85AE-7A454E5C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CA260-5A0C-473D-9A2B-D1FAE3F2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D7965-3B32-4B16-AA71-FB0455CC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3114E-DA8C-4AE0-A7B5-13AAB8D6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76754-A5BA-4C1E-8179-5EF4A90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41650-79DD-418B-A813-F38114FB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07483-3ABA-4D93-8F25-BB1ACA9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A0A5A-05F6-4EBA-8052-0E56019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F7C-B266-4D79-B547-BD1958F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318CF-954A-4FF3-AFB0-616E161E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273F5-475E-4EE5-BF60-E26F0491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9E561-E926-4EF5-A68E-BCF5D2A7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4F93-FF07-4BA8-9599-FC2AFADD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194C-DD04-417A-9EC7-782CA726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EF025-4740-48C8-99B4-1A494A59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656D8-1751-4C9D-9C7F-601AC7D4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66D67-A783-4678-975B-FB4601EC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AF252-9A91-4B1C-86DA-823F85CD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1FBCC-6258-468A-A670-C36E37C5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447-4EEE-418A-8ACB-E4B31109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8A150-8C66-4C7C-8A02-68222241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49419-74C8-4E8F-8F14-1C638DDD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B545B-4EFC-468B-A269-EF340E34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E9C01-BEA1-4CC6-A5BA-F617233B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A5291-065F-497C-AED1-FA7B69FB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25151-0A2D-469D-8D2F-2AEFC032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5B8B4-3221-4C37-A8A3-9206C99E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3FCF3-F2C0-49D9-8291-ED5D9A27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41679-78D3-40EE-A753-3B618921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11B71-FC50-4D72-8B51-60643898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E90-EA3E-4F17-BFD9-E8F59A45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748FD-4145-4DF5-AEBE-B2C9C123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28D6E-6CAF-4CE0-83B5-8EFF8C1F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D196C-3F1A-41EE-9EA7-9AA44509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B82C9-A724-4014-B574-1120337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842BD-882B-42FE-B72E-05689C2E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73A3A-593D-4849-9AF1-589595E9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93057-35FA-48BD-A8DE-5BA6E3DA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33097-200D-49B4-ADC6-3F4DB80B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93AD8-9DC9-4E74-BB0A-49D0F6E3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8ECBB-DB6A-4E37-A81E-0BEA5459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8BD6-B16B-42A6-8436-FAD496A7A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2667-5249-49C7-92A7-210B99449A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FB38-88D1-4B83-A0C1-53819E1ED2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EC38-1F32-4712-B20E-EE6916537E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3771-0C88-431D-A224-3F5FFB067C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4DE7-DF2B-4A18-BFA1-F44403F560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8F3B-D49E-4876-9B1E-F064D05C72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BBC3-0AE2-471E-8D8F-184AE8979F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92D0-E913-46F0-A06B-080268A453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DC06-966B-4E83-991D-5CACAA2C6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68F2-11EF-475B-B5E8-F45BF4C187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3B01-4324-4564-80D1-386F521D06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B2DF-1FB3-4186-8110-DDD809E2F3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BCC8-AF16-400D-83ED-6574349616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9A60-2A33-4148-B793-75FBA06198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A49B-FF75-49D1-9A8B-035A02E627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4A3C-974C-4D6A-A97E-A22415271E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AD3C-7E90-45A7-A6F6-AC4075738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FAD1-EDA7-4B27-9506-2F44BEDDC6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4627-CB90-4153-B7EB-A9C85C13FA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1C70-C74B-401B-AA09-008CE9DE63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7835-3864-4687-96C1-BD32E82508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4947-76E9-421A-8E5C-A8C40B8663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B207-35C3-4C93-AD7F-8B422A9DE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D85-56B5-4E1E-8E3F-02ACABEDC4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14BE-2300-45F0-A47F-BD98978391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3DA5-CAB2-4CD8-9BE4-2FF0330F89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D79-9183-4DEC-84A7-10B06ECF8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D34F-3F43-4871-9A57-2C873B692B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F445-7D60-4C62-942E-D7873A93CB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6469-9D23-41BD-9227-45A30A393E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2104-2BA7-4106-9191-4B249DA977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169B-82F9-4DF9-B3E9-0FA2D120C5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7FD8-FD77-4AF4-ACE7-E4C80F2AF4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04C4-56DC-4D28-B0A0-B9ACF06E3D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F8D1-0A74-438C-A1C8-346BB30214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AC11-C26E-4855-A930-2ED0CA92FE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C23C-3726-4B8C-9E2E-7F6D6F360D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22B2-B9B5-4597-B095-366AC5A737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5601-F8E2-46D1-85F8-DF54E5CF80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500200" y="2428920"/>
            <a:ext cx="4076640" cy="609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2286000" y="3571920"/>
            <a:ext cx="45054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352440" y="1071720"/>
            <a:ext cx="8439120" cy="47145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2"/>
          <a:stretch/>
        </p:blipFill>
        <p:spPr>
          <a:xfrm>
            <a:off x="285840" y="44434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3"/>
          <a:stretch/>
        </p:blipFill>
        <p:spPr>
          <a:xfrm>
            <a:off x="285840" y="491184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4"/>
          <a:stretch/>
        </p:blipFill>
        <p:spPr>
          <a:xfrm>
            <a:off x="285840" y="540072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439120" cy="52196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285840" y="2560680"/>
            <a:ext cx="8786880" cy="1276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285840" y="392904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7381800" cy="4838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285840" y="177480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285840" y="2274840"/>
            <a:ext cx="8786880" cy="2433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285840" y="48211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285840" y="5357880"/>
            <a:ext cx="87868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395280" y="1790640"/>
            <a:ext cx="8353440" cy="3276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285840" y="273384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285840" y="321480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4"/>
          <a:stretch/>
        </p:blipFill>
        <p:spPr>
          <a:xfrm>
            <a:off x="285840" y="368316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5"/>
          <a:stretch/>
        </p:blipFill>
        <p:spPr>
          <a:xfrm>
            <a:off x="285840" y="413532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6"/>
          <a:stretch/>
        </p:blipFill>
        <p:spPr>
          <a:xfrm>
            <a:off x="285840" y="462600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380880" y="1095480"/>
            <a:ext cx="8382240" cy="4667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2"/>
          <a:stretch/>
        </p:blipFill>
        <p:spPr>
          <a:xfrm>
            <a:off x="285840" y="3968640"/>
            <a:ext cx="8786880" cy="8128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3"/>
          <a:stretch/>
        </p:blipFill>
        <p:spPr>
          <a:xfrm>
            <a:off x="285840" y="484992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4"/>
          <a:stretch/>
        </p:blipFill>
        <p:spPr>
          <a:xfrm>
            <a:off x="285840" y="528948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285840" y="861840"/>
            <a:ext cx="8439120" cy="4496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2"/>
          <a:stretch/>
        </p:blipFill>
        <p:spPr>
          <a:xfrm>
            <a:off x="237960" y="5643720"/>
            <a:ext cx="8477280" cy="885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3"/>
          <a:stretch/>
        </p:blipFill>
        <p:spPr>
          <a:xfrm>
            <a:off x="285840" y="2825640"/>
            <a:ext cx="8786880" cy="716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4"/>
          <a:stretch/>
        </p:blipFill>
        <p:spPr>
          <a:xfrm>
            <a:off x="285840" y="3681360"/>
            <a:ext cx="8786880" cy="743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5"/>
          <a:stretch/>
        </p:blipFill>
        <p:spPr>
          <a:xfrm>
            <a:off x="285840" y="4572000"/>
            <a:ext cx="8786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143920" cy="56102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285840" y="1447920"/>
            <a:ext cx="4786200" cy="374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285840" y="192888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285840" y="236844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5"/>
          <a:stretch/>
        </p:blipFill>
        <p:spPr>
          <a:xfrm>
            <a:off x="285840" y="283680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6"/>
          <a:stretch/>
        </p:blipFill>
        <p:spPr>
          <a:xfrm>
            <a:off x="285840" y="3346560"/>
            <a:ext cx="4786200" cy="13413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7"/>
          <a:stretch/>
        </p:blipFill>
        <p:spPr>
          <a:xfrm>
            <a:off x="285840" y="4786200"/>
            <a:ext cx="8786880" cy="12463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8"/>
          <a:stretch/>
        </p:blipFill>
        <p:spPr>
          <a:xfrm>
            <a:off x="285840" y="611820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333360" y="905040"/>
            <a:ext cx="8477280" cy="5667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2"/>
          <a:stretch/>
        </p:blipFill>
        <p:spPr>
          <a:xfrm>
            <a:off x="285840" y="3774960"/>
            <a:ext cx="5357880" cy="3762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3"/>
          <a:stretch/>
        </p:blipFill>
        <p:spPr>
          <a:xfrm>
            <a:off x="285840" y="4206960"/>
            <a:ext cx="5357880" cy="376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4"/>
          <a:stretch/>
        </p:blipFill>
        <p:spPr>
          <a:xfrm>
            <a:off x="285840" y="4707000"/>
            <a:ext cx="5357880" cy="3762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5"/>
          <a:stretch/>
        </p:blipFill>
        <p:spPr>
          <a:xfrm>
            <a:off x="285840" y="5135400"/>
            <a:ext cx="5357880" cy="3765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6"/>
          <a:stretch/>
        </p:blipFill>
        <p:spPr>
          <a:xfrm>
            <a:off x="285840" y="5635800"/>
            <a:ext cx="5357880" cy="3762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7"/>
          <a:stretch/>
        </p:blipFill>
        <p:spPr>
          <a:xfrm>
            <a:off x="285840" y="6095880"/>
            <a:ext cx="878688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642960" y="1000080"/>
            <a:ext cx="8067600" cy="33148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3"/>
          <a:stretch/>
        </p:blipFill>
        <p:spPr>
          <a:xfrm>
            <a:off x="285840" y="14796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4"/>
          <a:stretch/>
        </p:blipFill>
        <p:spPr>
          <a:xfrm>
            <a:off x="285840" y="19288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5"/>
          <a:stretch/>
        </p:blipFill>
        <p:spPr>
          <a:xfrm>
            <a:off x="285840" y="241776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6"/>
          <a:stretch/>
        </p:blipFill>
        <p:spPr>
          <a:xfrm>
            <a:off x="285840" y="28576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7"/>
          <a:stretch/>
        </p:blipFill>
        <p:spPr>
          <a:xfrm>
            <a:off x="285840" y="334656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8"/>
          <a:stretch/>
        </p:blipFill>
        <p:spPr>
          <a:xfrm>
            <a:off x="285840" y="3846600"/>
            <a:ext cx="87868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33:04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